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F282-19B3-4A69-992E-D12E7612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293A-4BAF-4FB3-B783-D59623E66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BBBF-6223-458B-BAA2-1EB8189A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FE87-FA62-4D91-89B1-CD852A212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8C4-1261-4899-AD02-B10CBC3DA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0E9B-1FB3-48C4-A75E-5A9EE537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91BB-2EB0-43BC-8350-A91EBABF1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CEB2-E2D8-42FA-B38D-A97AD362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FCB7-D7C7-428A-ACBC-403A3F50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C75-B1CB-44AB-A497-885040E6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9763-2EBA-4B06-B9B3-93473C1E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AD42-B10B-405A-B89C-F8762F5E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7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EFBD-F890-4218-8336-D76166700D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6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BottomLineLight.png"/>
          <p:cNvPicPr/>
          <p:nvPr/>
        </p:nvPicPr>
        <p:blipFill>
          <a:blip r:embed="rId1"/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22280" y="6049800"/>
            <a:ext cx="1564560" cy="459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005720" y="6049800"/>
            <a:ext cx="3690360" cy="35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TypoSlabserif-Light"/>
              </a:rPr>
              <a:t>Online Actions With Offline Impa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Prev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MainTitleImageShadow.png"/>
          <p:cNvPicPr/>
          <p:nvPr/>
        </p:nvPicPr>
        <p:blipFill>
          <a:blip r:embed="rId5"/>
          <a:stretch/>
        </p:blipFill>
        <p:spPr>
          <a:xfrm>
            <a:off x="2019240" y="3728880"/>
            <a:ext cx="1901880" cy="2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MainTitleShadow.png"/>
          <p:cNvPicPr/>
          <p:nvPr/>
        </p:nvPicPr>
        <p:blipFill>
          <a:blip r:embed="rId6"/>
          <a:stretch/>
        </p:blipFill>
        <p:spPr>
          <a:xfrm>
            <a:off x="4716360" y="3701880"/>
            <a:ext cx="5202360" cy="2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rgus"/>
          <p:cNvPicPr/>
          <p:nvPr/>
        </p:nvPicPr>
        <p:blipFill>
          <a:blip r:embed="rId7"/>
          <a:stretch/>
        </p:blipFill>
        <p:spPr>
          <a:xfrm>
            <a:off x="2374920" y="2521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5"/>
          <p:cNvSpPr/>
          <p:nvPr/>
        </p:nvSpPr>
        <p:spPr>
          <a:xfrm>
            <a:off x="4125960" y="2357280"/>
            <a:ext cx="608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Online Social Networks Influ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ine and Offline Us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9"/>
          <p:cNvGrpSpPr/>
          <p:nvPr/>
        </p:nvGrpSpPr>
        <p:grpSpPr>
          <a:xfrm>
            <a:off x="1285920" y="1523880"/>
            <a:ext cx="5730840" cy="3810240"/>
            <a:chOff x="1285920" y="1523880"/>
            <a:chExt cx="5730840" cy="3810240"/>
          </a:xfrm>
        </p:grpSpPr>
        <p:pic>
          <p:nvPicPr>
            <p:cNvPr id="195" name="Rectangle 9" descr=""/>
            <p:cNvPicPr/>
            <p:nvPr/>
          </p:nvPicPr>
          <p:blipFill>
            <a:blip r:embed="rId1"/>
            <a:stretch/>
          </p:blipFill>
          <p:spPr>
            <a:xfrm>
              <a:off x="1285920" y="1523880"/>
              <a:ext cx="573084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343160" y="1557360"/>
              <a:ext cx="5616360" cy="36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0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1631880" y="172872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recorded activity from 4 weeks before joining the social network until 20 weeks after jo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record steps for at least one day in every 7-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signed-up on the app at the same period (± 14 day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daily steps before treatment (± 600 ste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hart 18" descr=""/>
          <p:cNvPicPr/>
          <p:nvPr/>
        </p:nvPicPr>
        <p:blipFill>
          <a:blip r:embed="rId6"/>
          <a:stretch/>
        </p:blipFill>
        <p:spPr>
          <a:xfrm>
            <a:off x="7016760" y="19620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1"/>
          <p:cNvSpPr/>
          <p:nvPr/>
        </p:nvSpPr>
        <p:spPr>
          <a:xfrm>
            <a:off x="479520" y="374760"/>
            <a:ext cx="540072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1949400" y="1595520"/>
            <a:ext cx="7620120" cy="3666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How Joining A Social Network Impacts User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13"/>
          <p:cNvGrpSpPr/>
          <p:nvPr/>
        </p:nvGrpSpPr>
        <p:grpSpPr>
          <a:xfrm>
            <a:off x="1000080" y="1884240"/>
            <a:ext cx="5991120" cy="3016440"/>
            <a:chOff x="1000080" y="1884240"/>
            <a:chExt cx="5991120" cy="3016440"/>
          </a:xfrm>
        </p:grpSpPr>
        <p:pic>
          <p:nvPicPr>
            <p:cNvPr id="227" name="Rectangle 13" descr=""/>
            <p:cNvPicPr/>
            <p:nvPr/>
          </p:nvPicPr>
          <p:blipFill>
            <a:blip r:embed="rId1"/>
            <a:stretch/>
          </p:blipFill>
          <p:spPr>
            <a:xfrm>
              <a:off x="1000080" y="1884240"/>
              <a:ext cx="599112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055520" y="1916280"/>
              <a:ext cx="5880240" cy="29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"/>
          <p:cNvSpPr/>
          <p:nvPr/>
        </p:nvSpPr>
        <p:spPr>
          <a:xfrm>
            <a:off x="479520" y="428760"/>
            <a:ext cx="4032000" cy="58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6"/>
          <p:cNvSpPr/>
          <p:nvPr/>
        </p:nvSpPr>
        <p:spPr>
          <a:xfrm>
            <a:off x="1276200" y="2220840"/>
            <a:ext cx="53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started using the app around the same time (± 7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posts per day (± 0.3 posts) for each of the four weeks before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hart 19" descr=""/>
          <p:cNvPicPr/>
          <p:nvPr/>
        </p:nvPicPr>
        <p:blipFill>
          <a:blip r:embed="rId6"/>
          <a:stretch/>
        </p:blipFill>
        <p:spPr>
          <a:xfrm>
            <a:off x="6937200" y="20304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236376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1"/>
          <p:cNvSpPr/>
          <p:nvPr/>
        </p:nvSpPr>
        <p:spPr>
          <a:xfrm>
            <a:off x="479520" y="428760"/>
            <a:ext cx="4032000" cy="52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5"/>
          <a:stretch/>
        </p:blipFill>
        <p:spPr>
          <a:xfrm>
            <a:off x="2286000" y="1538280"/>
            <a:ext cx="7620120" cy="3781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70920" y="6134040"/>
            <a:ext cx="214560" cy="214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91713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66" name="Freeform 1"/>
          <p:cNvSpPr/>
          <p:nvPr/>
        </p:nvSpPr>
        <p:spPr>
          <a:xfrm>
            <a:off x="479520" y="374760"/>
            <a:ext cx="4032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5"/>
          <a:stretch/>
        </p:blipFill>
        <p:spPr>
          <a:xfrm>
            <a:off x="2505240" y="1690560"/>
            <a:ext cx="7181640" cy="3476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91695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1"/>
          <p:cNvSpPr/>
          <p:nvPr/>
        </p:nvSpPr>
        <p:spPr>
          <a:xfrm>
            <a:off x="479520" y="428760"/>
            <a:ext cx="4103640" cy="47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5"/>
          <a:stretch/>
        </p:blipFill>
        <p:spPr>
          <a:xfrm>
            <a:off x="1055520" y="2124000"/>
            <a:ext cx="9444240" cy="22780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The Effect Of Individual Edg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9213480" y="611676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"/>
          <p:cNvSpPr/>
          <p:nvPr/>
        </p:nvSpPr>
        <p:spPr>
          <a:xfrm>
            <a:off x="479520" y="330120"/>
            <a:ext cx="41767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5"/>
          <a:stretch/>
        </p:blipFill>
        <p:spPr>
          <a:xfrm>
            <a:off x="1271520" y="2274840"/>
            <a:ext cx="9239400" cy="2205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Explaining Decreasing Influence Of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919116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1"/>
          <p:cNvSpPr/>
          <p:nvPr/>
        </p:nvSpPr>
        <p:spPr>
          <a:xfrm>
            <a:off x="479520" y="374760"/>
            <a:ext cx="468000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5"/>
          <a:stretch/>
        </p:blipFill>
        <p:spPr>
          <a:xfrm>
            <a:off x="5087880" y="461880"/>
            <a:ext cx="5826240" cy="49658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Which Users Are Most Susceptible To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91911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TextBox 1" descr=""/>
          <p:cNvPicPr/>
          <p:nvPr/>
        </p:nvPicPr>
        <p:blipFill>
          <a:blip r:embed="rId5"/>
          <a:stretch/>
        </p:blipFill>
        <p:spPr>
          <a:xfrm>
            <a:off x="2109960" y="2517840"/>
            <a:ext cx="8667720" cy="7682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: Rounded Corners 8"/>
          <p:cNvSpPr/>
          <p:nvPr/>
        </p:nvSpPr>
        <p:spPr>
          <a:xfrm>
            <a:off x="2120760" y="3436920"/>
            <a:ext cx="432756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63" name="Freeform 1"/>
          <p:cNvSpPr/>
          <p:nvPr/>
        </p:nvSpPr>
        <p:spPr>
          <a:xfrm>
            <a:off x="550800" y="322200"/>
            <a:ext cx="393372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33400" y="487800"/>
            <a:ext cx="448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zumio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5"/>
          <a:stretch/>
        </p:blipFill>
        <p:spPr>
          <a:xfrm>
            <a:off x="7900920" y="963720"/>
            <a:ext cx="1357560" cy="22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6"/>
          <a:stretch/>
        </p:blipFill>
        <p:spPr>
          <a:xfrm>
            <a:off x="9610560" y="946080"/>
            <a:ext cx="13669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8327880" y="3637080"/>
            <a:ext cx="2179800" cy="1909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309760" y="3591000"/>
            <a:ext cx="393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Activity (Running, Walking, Climbing, Cycling, Yoga and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llout: Bent Line 9"/>
          <p:cNvSpPr/>
          <p:nvPr/>
        </p:nvSpPr>
        <p:spPr>
          <a:xfrm>
            <a:off x="5148360" y="1677960"/>
            <a:ext cx="1668240" cy="612720"/>
          </a:xfrm>
          <a:prstGeom prst="borderCallout2">
            <a:avLst>
              <a:gd name="adj1" fmla="val 18750"/>
              <a:gd name="adj2" fmla="val -8333"/>
              <a:gd name="adj3" fmla="val 87847"/>
              <a:gd name="adj4" fmla="val -14129"/>
              <a:gd name="adj5" fmla="val 249314"/>
              <a:gd name="adj6" fmla="val -38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cceleromet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llout: Bent Line 14"/>
          <p:cNvSpPr/>
          <p:nvPr/>
        </p:nvSpPr>
        <p:spPr>
          <a:xfrm>
            <a:off x="1973160" y="1677960"/>
            <a:ext cx="1592280" cy="646200"/>
          </a:xfrm>
          <a:prstGeom prst="borderCallout2">
            <a:avLst>
              <a:gd name="adj1" fmla="val 18750"/>
              <a:gd name="adj2" fmla="val -8333"/>
              <a:gd name="adj3" fmla="val 85425"/>
              <a:gd name="adj4" fmla="val 123268"/>
              <a:gd name="adj5" fmla="val 235064"/>
              <a:gd name="adj6" fmla="val 14648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lf-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PrevArrow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3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lowchart: Alternate Process 15"/>
          <p:cNvSpPr/>
          <p:nvPr/>
        </p:nvSpPr>
        <p:spPr>
          <a:xfrm>
            <a:off x="1698480" y="2274840"/>
            <a:ext cx="5280120" cy="209088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"/>
          <p:cNvSpPr/>
          <p:nvPr/>
        </p:nvSpPr>
        <p:spPr>
          <a:xfrm>
            <a:off x="549360" y="311040"/>
            <a:ext cx="366876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39880" y="48636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rgus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8399520" y="1216080"/>
            <a:ext cx="2093760" cy="378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3"/>
          <p:cNvSpPr/>
          <p:nvPr/>
        </p:nvSpPr>
        <p:spPr>
          <a:xfrm>
            <a:off x="1847880" y="2274840"/>
            <a:ext cx="51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s launched 2 years after running Azum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add friends and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post comments on friends’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lowchart: Alternate Process 9"/>
          <p:cNvSpPr/>
          <p:nvPr/>
        </p:nvSpPr>
        <p:spPr>
          <a:xfrm>
            <a:off x="1774800" y="4921200"/>
            <a:ext cx="2665440" cy="515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1"/>
          <p:cNvSpPr/>
          <p:nvPr/>
        </p:nvSpPr>
        <p:spPr>
          <a:xfrm>
            <a:off x="774720" y="282600"/>
            <a:ext cx="1841400" cy="90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033560" y="45144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7680" y="1515960"/>
          <a:ext cx="7127640" cy="2965680"/>
        </p:xfrm>
        <a:graphic>
          <a:graphicData uri="http://schemas.openxmlformats.org/drawingml/2006/table">
            <a:tbl>
              <a:tblPr/>
              <a:tblGrid>
                <a:gridCol w="2573280"/>
                <a:gridCol w="1409400"/>
                <a:gridCol w="2322720"/>
                <a:gridCol w="82224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 2011 – Jan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of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3,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nline and offline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posts (online engag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(BMI &lt; 18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tracking ste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weight (18.5 ≤ BMI &lt; 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f steps tracking (offline activ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weight (25 ≤ BMI &lt; 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3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teps track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se (30 ≤ BM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2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8"/>
          <p:cNvSpPr/>
          <p:nvPr/>
        </p:nvSpPr>
        <p:spPr>
          <a:xfrm>
            <a:off x="1900080" y="49816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MI: Body Mas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234792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14" name="Freeform 1"/>
          <p:cNvSpPr/>
          <p:nvPr/>
        </p:nvSpPr>
        <p:spPr>
          <a:xfrm>
            <a:off x="550800" y="352440"/>
            <a:ext cx="5697720" cy="72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766800" y="575280"/>
            <a:ext cx="67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5"/>
          <a:stretch/>
        </p:blipFill>
        <p:spPr>
          <a:xfrm>
            <a:off x="2389320" y="2027160"/>
            <a:ext cx="7181640" cy="3191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lowchart: Alternate Process 17"/>
          <p:cNvSpPr/>
          <p:nvPr/>
        </p:nvSpPr>
        <p:spPr>
          <a:xfrm>
            <a:off x="3287880" y="5013360"/>
            <a:ext cx="5903640" cy="650880"/>
          </a:xfrm>
          <a:prstGeom prst="flowChartAlternate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Alternate Process 16"/>
          <p:cNvSpPr/>
          <p:nvPr/>
        </p:nvSpPr>
        <p:spPr>
          <a:xfrm>
            <a:off x="6600960" y="981000"/>
            <a:ext cx="3004920" cy="650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1"/>
          <p:cNvSpPr/>
          <p:nvPr/>
        </p:nvSpPr>
        <p:spPr>
          <a:xfrm>
            <a:off x="479520" y="330120"/>
            <a:ext cx="561636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817560" y="1676520"/>
            <a:ext cx="4362480" cy="2979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32120" y="5182560"/>
            <a:ext cx="68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−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−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452640" y="2442960"/>
            <a:ext cx="50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6807240" y="29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e 13"/>
          <p:cNvSpPr/>
          <p:nvPr/>
        </p:nvSpPr>
        <p:spPr>
          <a:xfrm>
            <a:off x="6267600" y="2535120"/>
            <a:ext cx="502920" cy="914400"/>
          </a:xfrm>
          <a:custGeom>
            <a:avLst/>
            <a:gdLst>
              <a:gd name="textAreaLeft" fmla="*/ 321480 w 502920"/>
              <a:gd name="textAreaRight" fmla="*/ 503280 w 502920"/>
              <a:gd name="textAreaTop" fmla="*/ 12960 h 914400"/>
              <a:gd name="textAreaBottom" fmla="*/ 901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6"/>
                  <a:pt x="10800" y="991"/>
                </a:cubicBezTo>
                <a:lnTo>
                  <a:pt x="10800" y="9809"/>
                </a:lnTo>
                <a:cubicBezTo>
                  <a:pt x="10800" y="10305"/>
                  <a:pt x="5400" y="10800"/>
                  <a:pt x="0" y="10800"/>
                </a:cubicBezTo>
                <a:cubicBezTo>
                  <a:pt x="5400" y="10800"/>
                  <a:pt x="10800" y="11296"/>
                  <a:pt x="10800" y="11791"/>
                </a:cubicBezTo>
                <a:lnTo>
                  <a:pt x="10800" y="20609"/>
                </a:lnTo>
                <a:cubicBezTo>
                  <a:pt x="10800" y="211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600960" y="112248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: refers to activity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235440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lowchart: Preparation 16"/>
          <p:cNvSpPr/>
          <p:nvPr/>
        </p:nvSpPr>
        <p:spPr>
          <a:xfrm>
            <a:off x="619200" y="3673440"/>
            <a:ext cx="10585440" cy="148104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owchart: Alternate Process 15"/>
          <p:cNvSpPr/>
          <p:nvPr/>
        </p:nvSpPr>
        <p:spPr>
          <a:xfrm>
            <a:off x="1847880" y="1709640"/>
            <a:ext cx="6840360" cy="120960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51" name="Freeform 1"/>
          <p:cNvSpPr/>
          <p:nvPr/>
        </p:nvSpPr>
        <p:spPr>
          <a:xfrm>
            <a:off x="479520" y="330120"/>
            <a:ext cx="5616360" cy="6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7" descr=""/>
          <p:cNvPicPr/>
          <p:nvPr/>
        </p:nvPicPr>
        <p:blipFill>
          <a:blip r:embed="rId5"/>
          <a:stretch/>
        </p:blipFill>
        <p:spPr>
          <a:xfrm>
            <a:off x="1414440" y="4164120"/>
            <a:ext cx="6620040" cy="511200"/>
          </a:xfrm>
          <a:prstGeom prst="rect">
            <a:avLst/>
          </a:prstGeom>
          <a:ln w="0">
            <a:noFill/>
          </a:ln>
        </p:spPr>
      </p:pic>
      <p:sp>
        <p:nvSpPr>
          <p:cNvPr id="154" name="Arrow: Right 8"/>
          <p:cNvSpPr/>
          <p:nvPr/>
        </p:nvSpPr>
        <p:spPr>
          <a:xfrm>
            <a:off x="8163000" y="4218120"/>
            <a:ext cx="952560" cy="404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9221760" y="42292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1940040" y="1730520"/>
            <a:ext cx="7559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ated group / Treatm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grou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did no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ed mean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35116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lowchart: Alternate Process 15"/>
          <p:cNvSpPr/>
          <p:nvPr/>
        </p:nvSpPr>
        <p:spPr>
          <a:xfrm>
            <a:off x="5016600" y="4437000"/>
            <a:ext cx="5651280" cy="99072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11080" y="1566720"/>
          <a:ext cx="3608640" cy="3451320"/>
        </p:xfrm>
        <a:graphic>
          <a:graphicData uri="http://schemas.openxmlformats.org/drawingml/2006/table">
            <a:tbl>
              <a:tblPr/>
              <a:tblGrid>
                <a:gridCol w="1311480"/>
                <a:gridCol w="1058760"/>
                <a:gridCol w="123840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n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ece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s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tracked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56240" y="1785960"/>
          <a:ext cx="2879640" cy="2225520"/>
        </p:xfrm>
        <a:graphic>
          <a:graphicData uri="http://schemas.openxmlformats.org/drawingml/2006/table">
            <a:tbl>
              <a:tblPr/>
              <a:tblGrid>
                <a:gridCol w="2270160"/>
                <a:gridCol w="60948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riends at requ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20"/>
          <p:cNvSpPr/>
          <p:nvPr/>
        </p:nvSpPr>
        <p:spPr>
          <a:xfrm>
            <a:off x="5016600" y="4508640"/>
            <a:ext cx="579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missingness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ys on social net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the number of days between the first created edge and the friendship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340000" y="606276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lowchart: Alternate Process 18"/>
          <p:cNvSpPr/>
          <p:nvPr/>
        </p:nvSpPr>
        <p:spPr>
          <a:xfrm>
            <a:off x="7750080" y="4292640"/>
            <a:ext cx="3710160" cy="865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9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"/>
          <p:cNvSpPr/>
          <p:nvPr/>
        </p:nvSpPr>
        <p:spPr>
          <a:xfrm>
            <a:off x="479520" y="428760"/>
            <a:ext cx="561636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5"/>
          <a:stretch/>
        </p:blipFill>
        <p:spPr>
          <a:xfrm>
            <a:off x="496800" y="1189080"/>
            <a:ext cx="6705720" cy="4429080"/>
          </a:xfrm>
          <a:prstGeom prst="rect">
            <a:avLst/>
          </a:prstGeom>
          <a:ln w="0">
            <a:noFill/>
          </a:ln>
        </p:spPr>
      </p:pic>
      <p:pic>
        <p:nvPicPr>
          <p:cNvPr id="189" name="Chart 22" descr=""/>
          <p:cNvPicPr/>
          <p:nvPr/>
        </p:nvPicPr>
        <p:blipFill>
          <a:blip r:embed="rId6"/>
          <a:stretch/>
        </p:blipFill>
        <p:spPr>
          <a:xfrm>
            <a:off x="7473960" y="1054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6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7750080" y="4437000"/>
            <a:ext cx="371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: Intrinsic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Motivation from Social Infl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8:01:12Z</dcterms:created>
  <dc:creator>alanmolnar</dc:creator>
  <dc:description/>
  <dc:language>en-US</dc:language>
  <cp:lastModifiedBy>mosajd</cp:lastModifiedBy>
  <dcterms:modified xsi:type="dcterms:W3CDTF">2020-11-17T07:50:20Z</dcterms:modified>
  <cp:revision>93</cp:revision>
  <dc:subject/>
  <dc:title>Slide 1</dc:title>
</cp:coreProperties>
</file>